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13757"/>
        <c:axId val="80533176"/>
      </c:barChart>
      <c:catAx>
        <c:axId val="20813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33176"/>
        <c:crosses val="autoZero"/>
        <c:auto val="1"/>
        <c:lblAlgn val="ctr"/>
        <c:lblOffset val="100"/>
        <c:noMultiLvlLbl val="0"/>
      </c:catAx>
      <c:valAx>
        <c:axId val="80533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13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111-6B57-4015-9753-825AF4CC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E6E-87A1-4CAA-A310-DE083B7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FC6-963F-445C-8E11-83CBA005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219-246C-42F4-870A-1062726E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FFB-AFFA-4B32-B8AE-15B49BD1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B4D-0287-4D17-B6A6-6FE4942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558-4DA2-48D2-8B70-9A1C125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D3E-B7D4-420F-805E-83BEA42B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117-E90C-485E-BFB4-4226129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2A0-A76F-467D-A179-A47B2FF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D58-978E-4606-89AE-F58CC89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5D2-5F66-4CB8-84A0-C5F6DDA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9E628-8A7D-4695-9778-FC3B3B3AD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