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45532"/>
        <c:axId val="36921262"/>
      </c:barChart>
      <c:catAx>
        <c:axId val="40445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21262"/>
        <c:crosses val="autoZero"/>
        <c:auto val="1"/>
        <c:lblAlgn val="ctr"/>
        <c:lblOffset val="100"/>
        <c:noMultiLvlLbl val="0"/>
      </c:catAx>
      <c:valAx>
        <c:axId val="36921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45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03F-91F6-4139-AEA3-1E621F6F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E37-137D-470B-8F84-0A8E4DD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A78-559B-49ED-9A64-95B8AD63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619-0ECE-490B-9FA7-1FAE6D95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BFB-69F0-4AD6-AEFB-97C303A5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455-7C55-43C0-8EF2-DF1DBD3D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BC3-0569-4B94-BD5B-149A35A1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7A1-305A-4A4E-955D-1BEB4D20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273-EE8A-47C1-A53D-81B2A40B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BD0-EF74-406E-AE33-1621EFA4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635-2FE8-4C26-9F03-52B1874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4AD-ED4E-4897-BC7E-D6249A9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B116A-0158-48C1-9C40-2ACCB760A1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