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14261"/>
        <c:axId val="42257685"/>
      </c:barChart>
      <c:catAx>
        <c:axId val="25914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57685"/>
        <c:crosses val="autoZero"/>
        <c:auto val="1"/>
        <c:lblAlgn val="ctr"/>
        <c:lblOffset val="100"/>
        <c:noMultiLvlLbl val="0"/>
      </c:catAx>
      <c:valAx>
        <c:axId val="42257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14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3D8-6016-4A7F-83A8-A5CFB7C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F08-9CEA-4D73-B230-83A64AF0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2E2-1148-45A5-8E96-2945A474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909-F159-4A8E-BD8C-E3D872AC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741-176A-4AE8-AC7E-C46F802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9B3-4D1B-4573-AFCF-B597EFDA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F14-DFB6-4602-8973-54896C2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728-CF4E-4986-8ED6-1F5E7A3B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EB2-0C01-4306-8261-5061793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BE1-4CAC-4D67-8226-A5C2C47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087-4BE3-4CF0-A1AD-F59F09E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242-FCE6-4665-93CF-76B236C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62817-5558-4593-841C-682B7B1F4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