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8873351"/>
        <c:axId val="66991295"/>
      </c:barChart>
      <c:catAx>
        <c:axId val="2887335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991295"/>
        <c:crosses val="autoZero"/>
        <c:auto val="1"/>
        <c:lblAlgn val="ctr"/>
        <c:lblOffset val="100"/>
        <c:noMultiLvlLbl val="0"/>
      </c:catAx>
      <c:valAx>
        <c:axId val="6699129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87335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14CA4-9678-49A1-8001-C71986F61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971BA-4862-4463-8E82-851565AD9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6DBC4-A9C4-4F91-8FAD-BE2227BE5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BF1DD-E12A-4C03-9546-81602E8B9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63B55-BABF-43DD-AA7A-CBD539436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A5455-9AE8-4BB5-A6A4-5DDA87EE6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020E8-3810-47A4-AD59-CDFAFBEAB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FEA09-018B-4B57-8A21-6A4EB5664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4C6AB-3A31-441F-999D-89F9B3938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AB109-7960-42B3-B6A8-FB4DC4FA4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48FCE-210A-4EEE-A183-30759BC2A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3D5CC-2AC3-4F96-A3DC-6F87F8B52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75723A-1C4B-44D9-B86C-DEA367D74B4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