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79753"/>
        <c:axId val="44498395"/>
      </c:barChart>
      <c:catAx>
        <c:axId val="38279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98395"/>
        <c:crosses val="autoZero"/>
        <c:auto val="1"/>
        <c:lblAlgn val="ctr"/>
        <c:lblOffset val="100"/>
        <c:noMultiLvlLbl val="0"/>
      </c:catAx>
      <c:valAx>
        <c:axId val="44498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79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1B6-36A1-4D6B-804B-00D1DC3B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217-D2B4-4AC1-8070-879CDEF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56C-96B9-4663-A6AA-BB4A6D80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8F4-FCCD-4C0F-8A72-FD591563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BB0-E494-4C25-BEC2-903983C8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07E-AB21-4FF5-A31F-36F374E5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27B-5300-4C58-BDB0-941F184A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525-AD31-4760-B0F0-76978D45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636-AB8F-450F-902B-6C6EFD81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6F7-6438-4571-BE46-E72E9B0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DC3-1C23-448B-9D99-93801B10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B07-EC63-4647-B346-53111817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14A8F-0993-4768-8483-D64D13879B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