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39388"/>
        <c:axId val="10768564"/>
      </c:barChart>
      <c:catAx>
        <c:axId val="60339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68564"/>
        <c:crosses val="autoZero"/>
        <c:auto val="1"/>
        <c:lblAlgn val="ctr"/>
        <c:lblOffset val="100"/>
        <c:noMultiLvlLbl val="0"/>
      </c:catAx>
      <c:valAx>
        <c:axId val="10768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39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17A-8A78-405D-9D8D-F42CC1E7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923-D8F0-418A-8998-B961931B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E79-306A-4DF4-A380-D578CA0E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2DD-2D40-476B-BC62-976C5D24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714-17B4-407F-A297-81FB4312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67E-6DD2-4BBB-92BC-A2B17861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8D9-8181-493A-93DD-B22BFD27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F5A-DB26-49EA-93E2-6DAB93E1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C1A-76EF-46C1-862D-175C3B73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EE7-DAA3-4057-954F-5BCF72E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8D7-5446-4C4C-B877-5B02C2C2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019-83AF-446E-BFB2-D5AFE5AD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C2121-1851-48C5-811B-E54F5DB8B1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