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638770"/>
        <c:axId val="49984690"/>
      </c:barChart>
      <c:catAx>
        <c:axId val="306387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984690"/>
        <c:crosses val="autoZero"/>
        <c:auto val="1"/>
        <c:lblAlgn val="ctr"/>
        <c:lblOffset val="100"/>
        <c:noMultiLvlLbl val="0"/>
      </c:catAx>
      <c:valAx>
        <c:axId val="499846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6387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F6B1-8076-4EEF-A7C0-D5CDC88F9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F2CC-A223-4B88-BF54-9BE1D2983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630B-47D9-4765-B757-03DD001E6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AECD-2002-4394-90A8-92ACA63B5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402B-641A-4984-95F5-E81585812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937E-1C0B-4AB3-82A1-C34C33814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6EB2-8002-4A6F-8780-1079CD55A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A758-B98F-4416-8EBB-55A373B7C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9408-FC17-4C2E-9565-6DD000675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9638-4BE0-4AE9-87F4-4229E8D02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6A5A-FFA0-42DB-855F-86ADAF4C6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77BB-41F6-4D2B-8370-19DD5EB6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5037BC-E2FB-4EB3-BAD4-AACDF8969D3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