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68755"/>
        <c:axId val="49307271"/>
      </c:barChart>
      <c:catAx>
        <c:axId val="33268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07271"/>
        <c:crosses val="autoZero"/>
        <c:auto val="1"/>
        <c:lblAlgn val="ctr"/>
        <c:lblOffset val="100"/>
        <c:noMultiLvlLbl val="0"/>
      </c:catAx>
      <c:valAx>
        <c:axId val="49307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68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40A-86AC-4B60-8E10-48370E0F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35F-4624-4B0C-95B1-13159E70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5D2-6C31-4DAC-B8C2-93645347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9B2-6979-4268-98FD-02D58AD2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1A0-CFAB-4806-BC0E-9495DB30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347-E079-4878-ABCE-2D32FA88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941-A8C3-4B98-90E1-389183F2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B4A-A334-41DA-9B76-BD545374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F32-6BC8-49B5-A35D-3C65805E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6EB-A0A4-4BFE-A0B1-15DE1BD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920-C269-4FF2-A767-7C768499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6C7-F4C5-4534-A50F-1662134A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2949A-5982-4CFD-BAB3-4444AD3C99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