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43384"/>
        <c:axId val="8879625"/>
      </c:barChart>
      <c:catAx>
        <c:axId val="27543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9625"/>
        <c:crosses val="autoZero"/>
        <c:auto val="1"/>
        <c:lblAlgn val="ctr"/>
        <c:lblOffset val="100"/>
        <c:noMultiLvlLbl val="0"/>
      </c:catAx>
      <c:valAx>
        <c:axId val="8879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43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96F-63F5-40BB-8166-1C62F4C7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139-7D86-413D-9145-0E1C6FC3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D61-BE27-4CD9-AAB2-8A832665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B3F9-4926-4793-812F-5492107F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B61-4C3C-48B5-8902-717652F5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13B-19FF-4CEB-8F21-9AD24B8F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2FE-F539-4BE2-9CC8-A078187E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9F69-CE60-41A7-972C-032ACFFF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9E4-B066-47E4-8492-79CCC656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C12-D4E8-47CB-A6F9-85301558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D86-2C46-45CB-B331-D8F0773A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FEE-674F-4943-847A-8D8CFBEC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D6188-BB16-4E4B-A78B-4FE030A860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