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06205"/>
        <c:axId val="49173414"/>
      </c:barChart>
      <c:catAx>
        <c:axId val="38606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3414"/>
        <c:crosses val="autoZero"/>
        <c:auto val="1"/>
        <c:lblAlgn val="ctr"/>
        <c:lblOffset val="100"/>
        <c:noMultiLvlLbl val="0"/>
      </c:catAx>
      <c:valAx>
        <c:axId val="49173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06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80C-DFEA-46A2-93F4-4BA384B8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A16-183E-485C-945B-4B977490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E52-D586-42EE-A4E0-2DDDADB0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75A-29EE-4DD0-9347-1E5BB6F6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A78-7ED4-4999-A259-77278F0F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BAB-7E5A-4EEF-94C0-AAA5846B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1B1-087D-4E23-86AA-7693FBFE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2F4-AF7C-407A-A1C6-76447CFA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AC3-4FD4-4AF7-9C15-EC9405F0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57C-6A82-45BC-BC3F-2B9CD28A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2BD-40E6-41B3-82C7-4995B484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6CD-9560-470A-9A7E-D2A09F7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CC1F5-7D11-41FF-8E1A-9CEE0ED00C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