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14764"/>
        <c:axId val="94698605"/>
      </c:barChart>
      <c:catAx>
        <c:axId val="48714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98605"/>
        <c:crosses val="autoZero"/>
        <c:auto val="1"/>
        <c:lblAlgn val="ctr"/>
        <c:lblOffset val="100"/>
        <c:noMultiLvlLbl val="0"/>
      </c:catAx>
      <c:valAx>
        <c:axId val="94698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14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9D7-2EE5-4302-8705-E78F1642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125-82C3-4884-B8AB-BE29208F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918-A7F9-4063-B7E1-5DA1FFBE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24A-ADED-487F-B8B3-83CEF308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C5F-7405-45A1-920E-38DFE9B6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502-33C4-4594-ADAF-5E41C5C0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AE2-6C0D-4F22-96DE-3CEC6E5C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AA5-8700-42F3-8DE9-15DA4B68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A82-5554-4E7E-BD92-B9437441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589-688E-4A87-94DF-5D794DB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2E5-D2CB-4A79-8D5B-10C3D69D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697-D94F-4179-BA05-A5A9D609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26926-1B89-45CF-A20E-419421F171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