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7328"/>
        <c:axId val="25324926"/>
      </c:barChart>
      <c:catAx>
        <c:axId val="11187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4926"/>
        <c:crosses val="autoZero"/>
        <c:auto val="1"/>
        <c:lblAlgn val="ctr"/>
        <c:lblOffset val="100"/>
        <c:noMultiLvlLbl val="0"/>
      </c:catAx>
      <c:valAx>
        <c:axId val="25324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7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DB3-37D4-41A0-8DC4-A07FC5C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D53-D188-4260-8222-988FAC6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1E1-0F5F-428C-A62E-2989CDA7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43C-CC30-4C7A-BC42-4C87DFC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0F8-F843-40B7-BE7F-2B95A5B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4C5-94ED-45EE-BC40-309C05FF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FDC-5532-48CE-8FD3-E9F6CEF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6B8-55AA-4CD3-8125-2AA0B8F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537-349B-4A92-890E-AFF952D4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323-C28C-487F-8DC1-B5624D7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FA8-330F-4126-A920-A3D0CA3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359-2F5F-48CB-A99D-EC2DBDC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89B8E-3309-4F6D-A622-E1E25FBC51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