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710489"/>
        <c:axId val="6878279"/>
      </c:barChart>
      <c:catAx>
        <c:axId val="867104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8279"/>
        <c:crosses val="autoZero"/>
        <c:auto val="1"/>
        <c:lblAlgn val="ctr"/>
        <c:lblOffset val="100"/>
        <c:noMultiLvlLbl val="0"/>
      </c:catAx>
      <c:valAx>
        <c:axId val="68782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104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BDAF-FE44-43D5-AFC8-A39CD61A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EF43-30CA-424E-981B-96C6C54A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F676-03D1-4442-9B0B-F7D0DC06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0EE6-85C7-4CCA-A49D-E7B05CC9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DA1F-84EC-4124-8883-199AC5E2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DE2F-1226-4AAA-9996-D04815D6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47F-CA09-4CA4-907E-1B67A3F5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4F10-26E3-4F60-8E35-E1276011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647A-A9F5-48F0-8D05-B081DB3F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15B6-DA10-4A40-8044-DCF6B698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BB45-A554-4B57-841E-398B9C18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A717-9591-4DA0-8BF4-7FF2EC83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BB8EF-81A9-44B3-9D23-CDF7F95A38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