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69089"/>
        <c:axId val="10346275"/>
      </c:barChart>
      <c:catAx>
        <c:axId val="63069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46275"/>
        <c:crosses val="autoZero"/>
        <c:auto val="1"/>
        <c:lblAlgn val="ctr"/>
        <c:lblOffset val="100"/>
        <c:noMultiLvlLbl val="0"/>
      </c:catAx>
      <c:valAx>
        <c:axId val="10346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9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1DB-C3FA-4AF3-8BF4-58F1FE32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926-9493-4EBC-B18F-9E9E51D9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B07-D7DA-4536-B3CA-B1A58147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408-8BDA-4DDF-9DDF-22EFF816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51F-22BE-4343-8D2D-5D93265B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DB8-FB8F-4DDF-969D-83C2FDB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661-3467-4F2B-B967-4705F4E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0F7-2272-488F-8C5C-BF59AE3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173-DB8F-49F6-9CC8-E0C2534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3F9-35E5-496A-A305-8B41091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462-1E7F-4C24-A17C-94B52D6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EA5-5219-4783-98A1-EB8B788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359DB-0DD8-465F-BE7F-33188CCBA9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