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9876"/>
        <c:axId val="66600747"/>
      </c:barChart>
      <c:catAx>
        <c:axId val="6719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0747"/>
        <c:crosses val="autoZero"/>
        <c:auto val="1"/>
        <c:lblAlgn val="ctr"/>
        <c:lblOffset val="100"/>
        <c:noMultiLvlLbl val="0"/>
      </c:catAx>
      <c:valAx>
        <c:axId val="66600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9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1A7-5D5B-4B15-85BF-FA9837BB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14E-74CF-4A0B-9EE2-2433F122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162-8219-4CEF-90D7-9FC3AD37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789-9C5D-4F02-BF6C-CDFC7BC7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692-E0E5-4278-81D8-953B2C89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5FB-BAF1-49F2-ABB3-209BF0B6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15F-9461-4716-AF7D-36257B4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408-21C5-4D16-BBF6-118EDAF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8D8-B613-475C-9901-CB72073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ED9-EE05-4B37-81EA-6F7CC23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0E2-CE2D-4342-AE4F-0C4A31D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172-3B00-4B34-BD25-6BD55E5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0E2A-93A8-4849-A188-B936A1F56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