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69514"/>
        <c:axId val="75748630"/>
      </c:barChart>
      <c:catAx>
        <c:axId val="48669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48630"/>
        <c:crosses val="autoZero"/>
        <c:auto val="1"/>
        <c:lblAlgn val="ctr"/>
        <c:lblOffset val="100"/>
        <c:noMultiLvlLbl val="0"/>
      </c:catAx>
      <c:valAx>
        <c:axId val="75748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9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0BB-FF5F-4F97-81AA-2F1527DE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6DF-269F-4F77-9CA4-081865E9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8D7-F1ED-4FE3-98AE-59F04ACE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611-A624-4B4A-BA44-33BC1F2E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B3C-6408-4C57-BCE9-C04F69F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FCD-1597-412F-BC7E-6228F1E6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9CF-D5AB-4DC6-8763-A9A5CA1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DF9-BC2F-426F-8F2A-43E012BA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095-1730-4663-AC55-1973F6F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4E0-51CF-49EF-A485-49459877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038-7B68-42AB-929C-AA9AD55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60A-DBE9-47F2-ACDB-D7C3807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BC69C-B2EE-47F9-A422-7D9CC974D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