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8674"/>
        <c:axId val="399393"/>
      </c:barChart>
      <c:catAx>
        <c:axId val="58858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93"/>
        <c:crosses val="autoZero"/>
        <c:auto val="1"/>
        <c:lblAlgn val="ctr"/>
        <c:lblOffset val="100"/>
        <c:noMultiLvlLbl val="0"/>
      </c:catAx>
      <c:valAx>
        <c:axId val="399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8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03B-6899-402C-8743-B6AC6248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39D-8224-4D66-93C4-6AD3715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6DF-085E-471D-A0A7-14834A29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021-37EE-4F14-8386-D1BCF8A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BC4-306A-4D8E-A814-A9373F0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940-059B-4608-BC34-E40FA919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BA4-FB45-4EAB-AC6A-B72D9AC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6C5-D5BA-4676-A52A-B02A20F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1E6-CCFF-4058-9866-A286D29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80D-E464-4BA5-BD79-E02A56C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CE-1CA0-499D-B03E-5B1207A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640-54EE-4A86-9BE3-ABC33E5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BCD3E-3721-4200-A859-973D3233F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