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250481"/>
        <c:axId val="6819495"/>
      </c:barChart>
      <c:catAx>
        <c:axId val="782504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9495"/>
        <c:crosses val="autoZero"/>
        <c:auto val="1"/>
        <c:lblAlgn val="ctr"/>
        <c:lblOffset val="100"/>
        <c:noMultiLvlLbl val="0"/>
      </c:catAx>
      <c:valAx>
        <c:axId val="68194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504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798-B61F-4DEC-96B3-9FDCB985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8A1-AB78-49EC-9715-783FC9FD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016-8E47-407A-823D-7E81BD8F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EEF-20C9-421B-A6DC-A0319DBB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182-3FA9-4CDC-94EC-7725B8BA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A0E5-D30D-44AA-94A4-EDAF0445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6EF-A999-4976-AF4D-8103DBB8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C65-E378-4288-B42F-E2D8178B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5A1-9906-4FE9-8001-1A80A8AA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229B-BDE0-49AD-9196-BF9DF53A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63FD-9148-43F4-9D6D-2EC469D7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ABE4-E96E-4AC7-BFD7-6D4ABDEB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80919-CB1D-4AC8-A9E3-E599212CE2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